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0305-2392-4C25-A4F4-A861A2ECF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B6B8-02BB-4D5E-A01C-C377C8F0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DCFE-F7DD-4A49-969D-C946F16B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E52-8F5E-475E-BF9A-6EDC9275B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F262-E118-422E-912D-1418FC57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567-B532-4636-8486-1BA66342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92FE-BD93-4EC2-91D9-0CD757B1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347-02E9-43C1-B2CD-4CE05E8E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C92-9C12-4FDD-B359-E9EA5F89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154-3385-4056-82BC-4DA9C18C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938B-D431-4EAF-9B56-22766D5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E86E-4B97-4DFF-8683-641F4860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127-CA92-4140-A58D-C2161A73BB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5" descr=""/>
          <p:cNvPicPr/>
          <p:nvPr/>
        </p:nvPicPr>
        <p:blipFill>
          <a:blip r:embed="rId1"/>
          <a:stretch/>
        </p:blipFill>
        <p:spPr>
          <a:xfrm>
            <a:off x="262080" y="3807000"/>
            <a:ext cx="2195280" cy="141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テキスト ボックス 3"/>
          <p:cNvSpPr/>
          <p:nvPr/>
        </p:nvSpPr>
        <p:spPr>
          <a:xfrm>
            <a:off x="138240" y="498600"/>
            <a:ext cx="11031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同封のマクロファイル「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wExplodeStepView.swp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」を所定のフォルダに配置し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例＞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D:\Program Files\macro\ExplodeStepView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138240" y="1301760"/>
            <a:ext cx="89136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マクロ導入手順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１）ツールよりユーザー定義を選択　　ユーザー定義画面を起動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２）ユーザー定義メニューのコマンドタブを選択、カテゴリの中から「マクロ」を選択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３）ボタンの中から「新規マクロボタン」を選択　マクロを登録したいコマンドマネージャーにドラッグ＆ドロップ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　　４）ユーザー定義マクロボタンに下記の情報を入力する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マクロ　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D:\Program Files\macro\ExplodeStepView\swExplodeStepView.sw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メソッド　　　　　</a:t>
            </a:r>
            <a:r>
              <a:rPr b="0" lang="en-US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plodeStepView.mai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ツールボタン名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プロンプト　　　　分解ｽﾃｯﾌﾟ表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５）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入力後、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K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ボタンクリックでマクロの導入は完了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17"/>
          <p:cNvSpPr/>
          <p:nvPr/>
        </p:nvSpPr>
        <p:spPr>
          <a:xfrm>
            <a:off x="149400" y="3546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18"/>
          <p:cNvSpPr/>
          <p:nvPr/>
        </p:nvSpPr>
        <p:spPr>
          <a:xfrm>
            <a:off x="291636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２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19"/>
          <p:cNvSpPr/>
          <p:nvPr/>
        </p:nvSpPr>
        <p:spPr>
          <a:xfrm>
            <a:off x="526248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３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インストール方法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2"/>
          <a:stretch/>
        </p:blipFill>
        <p:spPr>
          <a:xfrm>
            <a:off x="3119400" y="3776760"/>
            <a:ext cx="202428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13" descr=""/>
          <p:cNvPicPr/>
          <p:nvPr/>
        </p:nvPicPr>
        <p:blipFill>
          <a:blip r:embed="rId3"/>
          <a:stretch/>
        </p:blipFill>
        <p:spPr>
          <a:xfrm>
            <a:off x="7294680" y="3701880"/>
            <a:ext cx="2727360" cy="25178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4" descr=""/>
          <p:cNvPicPr/>
          <p:nvPr/>
        </p:nvPicPr>
        <p:blipFill>
          <a:blip r:embed="rId4"/>
          <a:stretch/>
        </p:blipFill>
        <p:spPr>
          <a:xfrm>
            <a:off x="10248840" y="3727440"/>
            <a:ext cx="15811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7" descr=""/>
          <p:cNvPicPr/>
          <p:nvPr/>
        </p:nvPicPr>
        <p:blipFill>
          <a:blip r:embed="rId5"/>
          <a:stretch/>
        </p:blipFill>
        <p:spPr>
          <a:xfrm>
            <a:off x="928800" y="4648320"/>
            <a:ext cx="1895400" cy="104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正方形/長方形 32"/>
          <p:cNvSpPr/>
          <p:nvPr/>
        </p:nvSpPr>
        <p:spPr>
          <a:xfrm>
            <a:off x="250920" y="3830760"/>
            <a:ext cx="587160" cy="311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33"/>
          <p:cNvSpPr/>
          <p:nvPr/>
        </p:nvSpPr>
        <p:spPr>
          <a:xfrm>
            <a:off x="1027080" y="5024520"/>
            <a:ext cx="1515960" cy="249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34"/>
          <p:cNvSpPr/>
          <p:nvPr/>
        </p:nvSpPr>
        <p:spPr>
          <a:xfrm>
            <a:off x="4087800" y="3967200"/>
            <a:ext cx="4935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35"/>
          <p:cNvSpPr/>
          <p:nvPr/>
        </p:nvSpPr>
        <p:spPr>
          <a:xfrm>
            <a:off x="3321000" y="6005520"/>
            <a:ext cx="1917720" cy="233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5418000" y="3759120"/>
            <a:ext cx="1667160" cy="723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正方形/長方形 38"/>
          <p:cNvSpPr/>
          <p:nvPr/>
        </p:nvSpPr>
        <p:spPr>
          <a:xfrm>
            <a:off x="6630840" y="3992400"/>
            <a:ext cx="397080" cy="33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9"/>
          <p:cNvSpPr/>
          <p:nvPr/>
        </p:nvSpPr>
        <p:spPr>
          <a:xfrm>
            <a:off x="7167600" y="3465360"/>
            <a:ext cx="404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４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線吹き出し 2 (枠付き) 1"/>
          <p:cNvSpPr/>
          <p:nvPr/>
        </p:nvSpPr>
        <p:spPr>
          <a:xfrm flipH="1">
            <a:off x="5517360" y="5719680"/>
            <a:ext cx="2225880" cy="576360"/>
          </a:xfrm>
          <a:prstGeom prst="borderCallout2">
            <a:avLst>
              <a:gd name="adj1" fmla="val 18750"/>
              <a:gd name="adj2" fmla="val -8333"/>
              <a:gd name="adj3" fmla="val -3037"/>
              <a:gd name="adj4" fmla="val -44148"/>
              <a:gd name="adj5" fmla="val -235277"/>
              <a:gd name="adj6" fmla="val -83097"/>
            </a:avLst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マクロは「・・・」ボタンにて選択してくださ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19"/>
          <p:cNvSpPr/>
          <p:nvPr/>
        </p:nvSpPr>
        <p:spPr>
          <a:xfrm>
            <a:off x="10164600" y="3465360"/>
            <a:ext cx="405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５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正方形/長方形 42"/>
          <p:cNvSpPr/>
          <p:nvPr/>
        </p:nvSpPr>
        <p:spPr>
          <a:xfrm>
            <a:off x="10172880" y="4030560"/>
            <a:ext cx="742680" cy="568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1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テキスト ボックス 3"/>
          <p:cNvSpPr/>
          <p:nvPr/>
        </p:nvSpPr>
        <p:spPr>
          <a:xfrm>
            <a:off x="79200" y="94464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分解ステップを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4280" y="1266840"/>
            <a:ext cx="2522520" cy="253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" name="テキスト ボックス 3"/>
          <p:cNvSpPr/>
          <p:nvPr/>
        </p:nvSpPr>
        <p:spPr>
          <a:xfrm>
            <a:off x="160200" y="515880"/>
            <a:ext cx="56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選択しているモデルの分散ステップを表示する機能で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本機能は、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Solidworks2010</a:t>
            </a: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にあった「分散ステップ表示」と同等の機能となり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46"/>
          <p:cNvSpPr/>
          <p:nvPr/>
        </p:nvSpPr>
        <p:spPr>
          <a:xfrm>
            <a:off x="1471680" y="1336680"/>
            <a:ext cx="587160" cy="5065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3"/>
          <p:cNvSpPr/>
          <p:nvPr/>
        </p:nvSpPr>
        <p:spPr>
          <a:xfrm>
            <a:off x="6072120" y="928800"/>
            <a:ext cx="31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200" spc="-1" strike="noStrike">
                <a:solidFill>
                  <a:srgbClr val="000000"/>
                </a:solidFill>
                <a:latin typeface="ＭＳ Ｐゴシック"/>
              </a:rPr>
              <a:t>複数のモデルを選択して実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0" descr=""/>
          <p:cNvPicPr/>
          <p:nvPr/>
        </p:nvPicPr>
        <p:blipFill>
          <a:blip r:embed="rId2"/>
          <a:stretch/>
        </p:blipFill>
        <p:spPr>
          <a:xfrm>
            <a:off x="8183520" y="1444680"/>
            <a:ext cx="2516400" cy="242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四角形吹き出し 28"/>
          <p:cNvSpPr/>
          <p:nvPr/>
        </p:nvSpPr>
        <p:spPr>
          <a:xfrm>
            <a:off x="9309240" y="1263600"/>
            <a:ext cx="1390680" cy="612720"/>
          </a:xfrm>
          <a:prstGeom prst="wedgeRectCallout">
            <a:avLst>
              <a:gd name="adj1" fmla="val -11990"/>
              <a:gd name="adj2" fmla="val 225699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別のモデルを選択（複数選択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1" descr=""/>
          <p:cNvPicPr/>
          <p:nvPr/>
        </p:nvPicPr>
        <p:blipFill>
          <a:blip r:embed="rId3"/>
          <a:stretch/>
        </p:blipFill>
        <p:spPr>
          <a:xfrm>
            <a:off x="7629480" y="4484520"/>
            <a:ext cx="2460600" cy="2213280"/>
          </a:xfrm>
          <a:prstGeom prst="rect">
            <a:avLst/>
          </a:prstGeom>
          <a:ln w="0">
            <a:noFill/>
          </a:ln>
        </p:spPr>
      </p:pic>
      <p:sp>
        <p:nvSpPr>
          <p:cNvPr id="71" name="四角形吹き出し 39"/>
          <p:cNvSpPr/>
          <p:nvPr/>
        </p:nvSpPr>
        <p:spPr>
          <a:xfrm>
            <a:off x="2662200" y="1461960"/>
            <a:ext cx="1373400" cy="406440"/>
          </a:xfrm>
          <a:prstGeom prst="wedgeRectCallout">
            <a:avLst>
              <a:gd name="adj1" fmla="val -89115"/>
              <a:gd name="adj2" fmla="val 8814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4"/>
          <a:stretch/>
        </p:blipFill>
        <p:spPr>
          <a:xfrm>
            <a:off x="2719440" y="4067280"/>
            <a:ext cx="267948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3" name="四角形吹き出し 38"/>
          <p:cNvSpPr/>
          <p:nvPr/>
        </p:nvSpPr>
        <p:spPr>
          <a:xfrm>
            <a:off x="3387600" y="3043080"/>
            <a:ext cx="2011320" cy="613080"/>
          </a:xfrm>
          <a:prstGeom prst="wedgeRectCallout">
            <a:avLst>
              <a:gd name="adj1" fmla="val -16564"/>
              <a:gd name="adj2" fmla="val 127277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4" descr=""/>
          <p:cNvPicPr/>
          <p:nvPr/>
        </p:nvPicPr>
        <p:blipFill>
          <a:blip r:embed="rId5"/>
          <a:stretch/>
        </p:blipFill>
        <p:spPr>
          <a:xfrm>
            <a:off x="1782720" y="3951360"/>
            <a:ext cx="1204920" cy="2376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"/>
          <p:cNvPicPr/>
          <p:nvPr/>
        </p:nvPicPr>
        <p:blipFill>
          <a:blip r:embed="rId6"/>
          <a:stretch/>
        </p:blipFill>
        <p:spPr>
          <a:xfrm>
            <a:off x="6232680" y="4094280"/>
            <a:ext cx="1596960" cy="2090520"/>
          </a:xfrm>
          <a:prstGeom prst="rect">
            <a:avLst/>
          </a:prstGeom>
          <a:ln w="0">
            <a:noFill/>
          </a:ln>
        </p:spPr>
      </p:pic>
      <p:sp>
        <p:nvSpPr>
          <p:cNvPr id="76" name="四角形吹き出し 49"/>
          <p:cNvSpPr/>
          <p:nvPr/>
        </p:nvSpPr>
        <p:spPr>
          <a:xfrm>
            <a:off x="9936000" y="4978440"/>
            <a:ext cx="1791000" cy="612720"/>
          </a:xfrm>
          <a:prstGeom prst="wedgeRectCallout">
            <a:avLst>
              <a:gd name="adj1" fmla="val -63740"/>
              <a:gd name="adj2" fmla="val 12666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最後に選択したモデルの分解ステップが表示されます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51"/>
          <p:cNvSpPr/>
          <p:nvPr/>
        </p:nvSpPr>
        <p:spPr>
          <a:xfrm>
            <a:off x="9628200" y="3011400"/>
            <a:ext cx="925560" cy="7128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屈折矢印 6"/>
          <p:cNvSpPr/>
          <p:nvPr/>
        </p:nvSpPr>
        <p:spPr>
          <a:xfrm rot="5400000">
            <a:off x="898920" y="3796200"/>
            <a:ext cx="1015920" cy="878040"/>
          </a:xfrm>
          <a:custGeom>
            <a:avLst/>
            <a:gdLst/>
            <a:ahLst/>
            <a:rect l="l" t="t" r="r" b="b"/>
            <a:pathLst>
              <a:path w="1016000" h="877888">
                <a:moveTo>
                  <a:pt x="0" y="658416"/>
                </a:moveTo>
                <a:lnTo>
                  <a:pt x="686792" y="658416"/>
                </a:lnTo>
                <a:lnTo>
                  <a:pt x="686792" y="219472"/>
                </a:lnTo>
                <a:lnTo>
                  <a:pt x="577056" y="219472"/>
                </a:lnTo>
                <a:lnTo>
                  <a:pt x="796528" y="0"/>
                </a:lnTo>
                <a:lnTo>
                  <a:pt x="1016000" y="219472"/>
                </a:lnTo>
                <a:lnTo>
                  <a:pt x="906264" y="219472"/>
                </a:lnTo>
                <a:lnTo>
                  <a:pt x="906264" y="877888"/>
                </a:lnTo>
                <a:lnTo>
                  <a:pt x="0" y="877888"/>
                </a:lnTo>
                <a:lnTo>
                  <a:pt x="0" y="658416"/>
                </a:lnTo>
                <a:close/>
              </a:path>
            </a:pathLst>
          </a:cu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下矢印 7"/>
          <p:cNvSpPr/>
          <p:nvPr/>
        </p:nvSpPr>
        <p:spPr>
          <a:xfrm>
            <a:off x="8585280" y="3932280"/>
            <a:ext cx="1025280" cy="5335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18c55"/>
              </a:gs>
              <a:gs pos="100000">
                <a:srgbClr val="e56b17"/>
              </a:gs>
            </a:gsLst>
            <a:lin ang="5400000"/>
          </a:gradFill>
          <a:ln w="648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6391440" y="1303200"/>
            <a:ext cx="1896840" cy="149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1" name="四角形吹き出し 3"/>
          <p:cNvSpPr/>
          <p:nvPr/>
        </p:nvSpPr>
        <p:spPr>
          <a:xfrm>
            <a:off x="5708520" y="2111400"/>
            <a:ext cx="914400" cy="612720"/>
          </a:xfrm>
          <a:prstGeom prst="wedgeRectCallout">
            <a:avLst>
              <a:gd name="adj1" fmla="val 95990"/>
              <a:gd name="adj2" fmla="val -40722"/>
            </a:avLst>
          </a:prstGeom>
          <a:solidFill>
            <a:srgbClr val="ffc000"/>
          </a:solidFill>
          <a:ln w="12600">
            <a:solidFill>
              <a:srgbClr val="bc8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0" lang="ja-JP" sz="1100" spc="-1" strike="noStrike">
                <a:solidFill>
                  <a:srgbClr val="000000"/>
                </a:solidFill>
                <a:latin typeface="Calibri"/>
              </a:rPr>
              <a:t>モデルを選択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50"/>
          <p:cNvSpPr/>
          <p:nvPr/>
        </p:nvSpPr>
        <p:spPr>
          <a:xfrm>
            <a:off x="7031160" y="1665360"/>
            <a:ext cx="753840" cy="75240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24"/>
          <p:cNvSpPr/>
          <p:nvPr/>
        </p:nvSpPr>
        <p:spPr>
          <a:xfrm>
            <a:off x="160200" y="160200"/>
            <a:ext cx="535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■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分解ステップ表示機能　概要（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2/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）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　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009800" y="4976640"/>
            <a:ext cx="2689200" cy="984600"/>
          </a:xfrm>
          <a:prstGeom prst="rect">
            <a:avLst/>
          </a:prstGeom>
          <a:ln w="0">
            <a:noFill/>
          </a:ln>
        </p:spPr>
      </p:pic>
      <p:sp>
        <p:nvSpPr>
          <p:cNvPr id="85" name="テキスト ボックス 3"/>
          <p:cNvSpPr/>
          <p:nvPr/>
        </p:nvSpPr>
        <p:spPr>
          <a:xfrm>
            <a:off x="324000" y="657360"/>
            <a:ext cx="310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1" lang="ja-JP" sz="1100" spc="-1" strike="noStrike">
                <a:solidFill>
                  <a:srgbClr val="000000"/>
                </a:solidFill>
                <a:latin typeface="ＭＳ Ｐゴシック"/>
              </a:rPr>
              <a:t>マクロ実行時に表示されるメッセー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テキスト ボックス 3"/>
          <p:cNvSpPr/>
          <p:nvPr/>
        </p:nvSpPr>
        <p:spPr>
          <a:xfrm>
            <a:off x="808200" y="4586400"/>
            <a:ext cx="37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選択したモデルに分解ステップが無い場合に表示されます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1009800" y="3259080"/>
            <a:ext cx="2689200" cy="984240"/>
          </a:xfrm>
          <a:prstGeom prst="rect">
            <a:avLst/>
          </a:prstGeom>
          <a:ln w="0">
            <a:noFill/>
          </a:ln>
        </p:spPr>
      </p:pic>
      <p:sp>
        <p:nvSpPr>
          <p:cNvPr id="88" name="テキスト ボックス 3"/>
          <p:cNvSpPr/>
          <p:nvPr/>
        </p:nvSpPr>
        <p:spPr>
          <a:xfrm>
            <a:off x="704880" y="2913120"/>
            <a:ext cx="72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モデルが選択されていない場合に表示されます。モデルを選択後、再度マクロを実行してください。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3"/>
          <p:cNvSpPr/>
          <p:nvPr/>
        </p:nvSpPr>
        <p:spPr>
          <a:xfrm>
            <a:off x="639720" y="1068480"/>
            <a:ext cx="789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アセンブリファイルを開いていない場合に表示されます。アセンブリファイルを開いてから再度マクロを実行してください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9" descr=""/>
          <p:cNvPicPr/>
          <p:nvPr/>
        </p:nvPicPr>
        <p:blipFill>
          <a:blip r:embed="rId3"/>
          <a:stretch/>
        </p:blipFill>
        <p:spPr>
          <a:xfrm>
            <a:off x="1046160" y="1387440"/>
            <a:ext cx="26892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9T04:14:58Z</dcterms:created>
  <dc:creator>2204 三橋  健二 （ﾐﾂﾊｼ ｹﾝｼﾞ）</dc:creator>
  <dc:description/>
  <dc:language>en-US</dc:language>
  <cp:lastModifiedBy>河上 敦</cp:lastModifiedBy>
  <dcterms:modified xsi:type="dcterms:W3CDTF">2016-09-22T15:30:47Z</dcterms:modified>
  <cp:revision>35</cp:revision>
  <dc:subject/>
  <dc:title>PowerPoint プレゼンテーション</dc:title>
</cp:coreProperties>
</file>